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0AA-7868-4720-A775-5F23DA6A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450-2BD2-44F1-8F56-FA1E8E67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371-12A7-47E6-BF23-BA9E9582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53B-C34E-44E9-A167-F0739AE4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FE2-CD1F-442F-BEEE-A086F127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88F-B53D-4AD3-9E39-6D7ED81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AA0-3608-463F-8AE8-0698F4F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85D-16D8-493B-B22E-64D7D54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71F-CF0C-49E4-B9BF-550212E3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BD6-0C14-46CC-8E43-0233CDC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15A-C79B-441F-ACB7-84B613F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59D-256E-476B-A629-7B872B5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9F8A-379F-48D4-813E-E9433EA62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LMartin\AppData\Local\Microsoft\Windows\Temporary Internet Files\Content.IE5\HK95MZY4\MCPE01445_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6680" y="465120"/>
            <a:ext cx="8270640" cy="592776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" descr=""/>
          <p:cNvPicPr/>
          <p:nvPr/>
        </p:nvPicPr>
        <p:blipFill>
          <a:blip r:embed="rId2"/>
          <a:stretch/>
        </p:blipFill>
        <p:spPr>
          <a:xfrm>
            <a:off x="-208080" y="96840"/>
            <a:ext cx="8066160" cy="187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62120" y="2133720"/>
            <a:ext cx="75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usp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haracters that may have caused the problem the mystery is trying to s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Detectives or Investiga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Characters that try to solve the mys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LMartin\AppData\Local\Microsoft\Windows\Temporary Internet Files\Content.IE5\SBJ3AGTW\MCBD07810_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533520"/>
            <a:ext cx="8381880" cy="5790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33520" y="304920"/>
            <a:ext cx="807696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Setting</a:t>
            </a: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 -</a:t>
            </a:r>
            <a:r>
              <a:rPr b="0" lang="en-US" sz="3600" spc="-1" strike="noStrike">
                <a:solidFill>
                  <a:srgbClr val="000000"/>
                </a:solidFill>
                <a:latin typeface="Goudy Old Style"/>
              </a:rPr>
              <a:t> The location where the mystery takes pl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Plot</a:t>
            </a: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 -</a:t>
            </a:r>
            <a:r>
              <a:rPr b="0" lang="en-US" sz="3600" spc="-1" strike="noStrike">
                <a:solidFill>
                  <a:srgbClr val="000000"/>
                </a:solidFill>
                <a:latin typeface="Goudy Old Style"/>
              </a:rPr>
              <a:t> The story of the mystery.  Usually there i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lem or puzzle to sol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that is mi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r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ven that is not expl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LMartin\AppData\Local\Microsoft\Windows\Temporary Internet Files\Content.IE5\SAARID1C\MCj02156560000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990720"/>
            <a:ext cx="838188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268200" y="225360"/>
            <a:ext cx="8790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2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7937640" cy="549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LMartin\AppData\Local\Microsoft\Windows\Temporary Internet Files\Content.IE5\SBJ3AGTW\MCj04348590000[1].png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Martin\AppData\Local\Microsoft\Windows\Temporary Internet Files\Content.IE5\1FJY86RW\MCj02908370000[1].wmf"/>
          <p:cNvPicPr/>
          <p:nvPr/>
        </p:nvPicPr>
        <p:blipFill>
          <a:blip r:embed="rId1"/>
          <a:stretch/>
        </p:blipFill>
        <p:spPr>
          <a:xfrm>
            <a:off x="152280" y="228600"/>
            <a:ext cx="297180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90640" y="1247760"/>
            <a:ext cx="6400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Distractions - Things that lead an investigator off the path, including clues that do not add up to a solution but make the search long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LMartin\AppData\Local\Microsoft\Windows\Temporary Internet Files\Content.IE5\SAARID1C\MCj03615020000[1].wmf"/>
          <p:cNvPicPr/>
          <p:nvPr/>
        </p:nvPicPr>
        <p:blipFill>
          <a:blip r:embed="rId1"/>
          <a:stretch/>
        </p:blipFill>
        <p:spPr>
          <a:xfrm>
            <a:off x="66600" y="228600"/>
            <a:ext cx="2905200" cy="6324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886200" y="-76320"/>
            <a:ext cx="434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rench Script MT"/>
              </a:rPr>
              <a:t>Structur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894040" y="2832120"/>
            <a:ext cx="64022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Most mysteries have a structure like thi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Introduction:</a:t>
            </a: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 learn about the problem, meet charac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Body:</a:t>
            </a: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 someone is working to solve the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Conclusion:</a:t>
            </a: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 mystery is solv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733920" y="1560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The way the story is se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5:59:20Z</dcterms:created>
  <dc:creator>Liana Martin</dc:creator>
  <dc:description/>
  <dc:language>en-US</dc:language>
  <cp:lastModifiedBy>Liana Martin</cp:lastModifiedBy>
  <dcterms:modified xsi:type="dcterms:W3CDTF">2009-03-31T23:39:30Z</dcterms:modified>
  <cp:revision>27</cp:revision>
  <dc:subject/>
  <dc:title>Slide 1</dc:title>
</cp:coreProperties>
</file>